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33CE-6766-4F7C-AAE0-06920BE8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84F2-D9C2-4DED-B69E-4647E6C7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57E4-5EA9-424C-9C36-09FCF652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50D8-13A4-4A03-A03B-B5FBAD96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8826-64B0-4BA6-9714-E3C2D34A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5F3B-BF50-49D2-ABF6-C0E74AC0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5587-2958-48C9-BDDB-7CA29E6B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932A-4B73-4F26-9E2B-8D119CC9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4C4B-B088-462A-8118-C8B90151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7A73-BF26-494C-95AE-6111E7B5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9795-7428-4DE0-BB89-E45AA923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B59A-B639-4CB3-8E1C-8195A936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342F-7CB4-4A80-AEBE-58D5876B56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3760" y="2286000"/>
            <a:ext cx="394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ate Rati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62920" cy="4572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66680" y="5181480"/>
            <a:ext cx="7162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5181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486400" y="480060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181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638680" y="4648320"/>
            <a:ext cx="25146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8120" y="2590920"/>
            <a:ext cx="2286000" cy="1460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7543800" cy="2057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7543800" cy="2210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934320" y="2209680"/>
            <a:ext cx="144756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4038480"/>
            <a:ext cx="18288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4038480"/>
            <a:ext cx="25909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400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086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1629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76520" y="3276720"/>
            <a:ext cx="5562360" cy="2819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90720" y="609480"/>
            <a:ext cx="70102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010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162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858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3:01Z</dcterms:modified>
  <cp:revision>219</cp:revision>
  <dc:subject/>
  <dc:title>Slide 1</dc:title>
</cp:coreProperties>
</file>